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82FC-5DEA-425B-B23F-AA61AA9F10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3A0-DBF9-4C01-A4D0-466CC51180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1156-6657-41F3-A015-77EA518F2D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F4D-7441-423B-A072-8BA92BD5E7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8D9-E851-4E85-95C9-8AF94D6D9E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AE0-940E-4E9F-8A78-79FA9734E2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DC4-2008-48B7-9F03-490295AEF8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53E9-F133-42A7-B2CD-E50CAB006C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B7C7-3292-453E-942F-069A79F498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C867-4277-45A0-BD77-7E9022B5EA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D9A-E9FE-43D5-98B6-16053507AB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EA55-1525-466D-B97D-A8AB30D5BF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FFAB-D6E1-48DE-9BAC-F9134F0B9D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12B-69EE-45E5-A589-3689F67079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365-C7B5-4849-9D03-18097E5296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DE62-2F4D-478D-A7CC-4AEC3EE2FA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5FE-14DC-4600-8C01-DD257D9DA7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3EDA-1770-4BCA-868C-FB452C2CF1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774-566A-431A-B4BE-20CEB68EF9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49A4-4AD9-4A78-A485-03BC89D8CF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E533-F95B-42AE-85BC-95F7B9C507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7E17-132B-4EC6-A032-1DA5DFE8E7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AAF-ECCC-46E2-A908-987E6C08D2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C63-E404-4493-9C70-1E29E439A8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8526-E44F-4306-BC87-D57567594F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222-D35A-4A2F-812A-6980A0926D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249-9E1A-4113-B2E2-11E820988A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AAE-8D84-472C-9467-2450B8B505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FF8-6A36-4044-9CED-3EFC7C1E0E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1D67-0349-457A-B23C-3DA0988E94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DA0D-FDC4-4E0A-B8BE-1D5177F18F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090-9CE5-455D-82C5-DA4146A0A1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594-4267-47E8-A71F-37159DD801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F1B4-DC8F-49E4-BCE3-EC8AF91BC8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D55-AE73-4ED2-A2A0-8CA04FD7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9B3-C204-4D9F-A937-DEAA442B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9A2-D456-4D53-8694-E15F5A7F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EBD-4857-4C6A-9BC7-2CBAAEFA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AE6-2C64-4547-9BC3-80DECD1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57C-CDA3-4E34-A5FC-3E83839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70D-6ED2-4865-BD31-620D037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3FC-CB91-4CAD-A55F-924773C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CE-ED9E-438B-B5BE-CC007B7C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9BF-A825-4E51-A210-1FBAD20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180-8D5D-4EDF-936D-EB827FD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E88-9FB1-4ACA-84D4-C853BB1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D648-FCA3-43B6-BED5-A012C493B96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b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쪽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절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사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ào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춤추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热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떠들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냐하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iánqīngré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젊은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지속의 의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b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èyà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chǎngmià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왕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liáotiān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잡담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或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òzh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던가 …이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찾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신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咖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f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커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二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rh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얼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악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까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향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을 대신하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告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os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리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íngba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o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잊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56:50Z</dcterms:created>
  <dc:creator>System</dc:creator>
  <dc:description/>
  <dc:language>en-US</dc:language>
  <cp:lastModifiedBy>System</cp:lastModifiedBy>
  <dcterms:modified xsi:type="dcterms:W3CDTF">2014-01-28T02:20:47Z</dcterms:modified>
  <cp:revision>3</cp:revision>
  <dc:subject/>
  <dc:title>슬라이드 1</dc:title>
</cp:coreProperties>
</file>